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B91-4B73-49D2-B516-954A358E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0E0-A6CA-4E93-AC0F-8589073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66C-9D1E-4468-A1AA-8C9C7B75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FA7-840B-4F87-A0BA-80AC568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CFA-966E-44A4-BCCC-BA282C5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65C-1CC4-40AF-BCB6-EFF3A54C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B64-37E4-426A-9C7C-C458D32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684-6A9E-4E5E-AF38-19F5CC0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55D-7132-45D3-87D3-121288F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437-D011-4FA3-8FC2-CC433C7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AE2-3D14-4EF6-B665-A5863D3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7D1-A1C0-4EE6-BF29-BB66896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F46-32DE-4D2F-9FB1-3D32A2908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meronartmuseum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77920"/>
            <a:ext cx="83818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Art Lessons: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lassroom Resource for Teachers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3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Cameron Art Mus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3201 South 17</a:t>
            </a:r>
            <a:r>
              <a:rPr b="0" lang="en-US" sz="17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 Stre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Wilmington, North Carolina 284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ameronartmuseum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1040" y="3505320"/>
            <a:ext cx="702504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operation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+ School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versity of North Carolina at Greensb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. Box 2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sboro, North Carolina 27402-6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lus-schools.uncg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a grant from the Corning Fou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:  Martha Burd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uld you write a poem about these imag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16761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might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ction words would fit these im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ecti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ve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help you tell about these im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possible tit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you mak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 ly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1244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you think these pictures were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181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rayon, colored penc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, canvas, w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arge do they se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think it took the artist to create each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magine the artist finishing them all at once or working over many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like to try making an artwork like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4043520"/>
            <a:ext cx="3047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 about the art and the arti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4960" y="1218960"/>
            <a:ext cx="5181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titled (Face Surrounded by Angels, Birds  and White Winged Creatu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innie Evans (American, 1892 -198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 Graphite, wax crayon, and gold oil paint on pa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 196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Minnie Evans is a self-taught artist who lived in Wilmington, North Carol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tle: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titled (Three Faces in Floral Desig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ist:  Minnie Evans (American 1892 -198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dium: Graphite, wax crayon, oil paint, collage on canvas boa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e:  196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nts: Minnie Evans created many of her artworks while working as a gatekeeper at Airlie Gardens in Wilmington, North Carol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047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son Fo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04960" y="1066320"/>
            <a:ext cx="5181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:  author’s purpose, poetry, descriptive language, parts of speech, reality and fantasy, compare and contr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udies: symbols, my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s:  symmetry,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rt:  composition, shape, color, space, folk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649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see in this artwork?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very carefully at all the det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600" y="1523880"/>
            <a:ext cx="5486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w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only part of something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ngs are made by combining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things arranged?  Is the arrangement like real life or is it more like a pattern or a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5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artist saying in this work?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main ide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092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im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 or fanta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tell a story 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ell the setting of this artwor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or what a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artwork?  Are they ordinary people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lse would we find these charac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90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you notice about patterns, shapes, symmetry, repetition and spa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apes ar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of symme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lo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shapes or are they crow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040" y="1600200"/>
            <a:ext cx="31734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making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work of ar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72464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giving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t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ie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ing us how to do 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purpose might sh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357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e a few minutes and examine this image carefully.  Pay attention to the detail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arrangement of the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195640"/>
            <a:ext cx="37339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w, let’s look at the two artworks toge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ds of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(the way the image is arr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lative size of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3124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tist’s purp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same in both artwork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600" y="15998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you think the artist is sending with these artwor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he artist feels about nature by looking at the natural images in her pictur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artworks more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more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98560" y="1219320"/>
            <a:ext cx="1996920" cy="249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1244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riga M</cp:lastModifiedBy>
  <dcterms:modified xsi:type="dcterms:W3CDTF">2006-10-20T15:52:4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1674122534</vt:r8>
  </property>
  <property fmtid="{D5CDD505-2E9C-101B-9397-08002B2CF9AE}" pid="4" name="_AuthorEmail">
    <vt:lpwstr>Georgia@cameronartmuseum.com</vt:lpwstr>
  </property>
  <property fmtid="{D5CDD505-2E9C-101B-9397-08002B2CF9AE}" pid="5" name="_AuthorEmailDisplayName">
    <vt:lpwstr>Georgia</vt:lpwstr>
  </property>
  <property fmtid="{D5CDD505-2E9C-101B-9397-08002B2CF9AE}" pid="6" name="_EmailSubject">
    <vt:lpwstr>lesson plans</vt:lpwstr>
  </property>
</Properties>
</file>